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0200" y="907560"/>
            <a:ext cx="7896240" cy="25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Using Disease Surveillance and Response to Facilitate Adaptation to Climate-Related Health Risk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00280" y="40381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Kristie L. Ebi, Ph.D., MPH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Development Day at COP-11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3 December 2005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Monitoring and Evaluation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rebuchet MS"/>
                <a:ea typeface="SimSun"/>
              </a:rPr>
              <a:t>Need to establish programs to answer these questions (at a minimum): 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rebuchet MS"/>
                <a:ea typeface="SimSun"/>
              </a:rPr>
              <a:t>What are the chances that we will fail to predict an epidemic, and how many lives would be lost? 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rebuchet MS"/>
                <a:ea typeface="SimSun"/>
              </a:rPr>
              <a:t>What are the chances of sounding a false alarm, thereby wasting resources and undermining public trust?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rebuchet MS"/>
                <a:ea typeface="SimSun"/>
              </a:rPr>
              <a:t>Is the system as responsive as needed?  How many lives could have been saved if the system response was faster? 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Is the system cost-effective?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7" name=""/>
          <p:cNvSpPr/>
          <p:nvPr/>
        </p:nvSpPr>
        <p:spPr>
          <a:xfrm>
            <a:off x="6683400" y="652140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ilson and Anker 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76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andidate Diseases for Epidemic Early Warning System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Cholera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Malaria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Dengue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Japanese encephalitis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Influenza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rebuchet MS"/>
              </a:rPr>
              <a:t>Others</a:t>
            </a:r>
            <a:endParaRPr b="1" lang="en-US" sz="28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288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ank You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urveillance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The continuing scrutiny of all aspects of the occurrence and spread of health outcomes that are pertinent to effective control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Guided by the need to make public health decisions in the context of constant vigilance and pragmatic responses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Involves systematic collection of health, disease, and environmental information, and the interpretation and distribution of this information to relevant actors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Includes risk factors necessary to interpret disease data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ome Features of Surveillance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Effective public health infrastructure required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Financial and human capital costs of surveillance play a key role in determining the type and quantity of data collected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ffff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rebuchet MS"/>
              </a:rPr>
              <a:t>Laboratories required to verify diagnoses, conduct quality assurance, etc.</a:t>
            </a:r>
            <a:endParaRPr b="1" lang="en-US" sz="1800" spc="-1" strike="noStrike">
              <a:solidFill>
                <a:srgbClr val="ffff99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Accuracy and timeliness important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Spatial and temporal scales of health and environmental data need to be matched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Legal and ethical framework important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Context and practice of surveillance vary greatly from one country to another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6683400" y="652140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ilson and Anker 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verage January Temperature Difference Between the 1960s and 1990s, and Additional Area at Risk for Schistosomiasi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2520" y="1752480"/>
            <a:ext cx="7129440" cy="474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438320" y="652140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Yang et al.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29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August 10 Temperature 1500 BST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6944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Verdana"/>
              </a:rPr>
              <a:t>Maximum Temperature August  10, 2003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168880" y="22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temp scale" descr=""/>
          <p:cNvPicPr/>
          <p:nvPr/>
        </p:nvPicPr>
        <p:blipFill>
          <a:blip r:embed="rId2"/>
          <a:stretch/>
        </p:blipFill>
        <p:spPr>
          <a:xfrm>
            <a:off x="7391520" y="1828800"/>
            <a:ext cx="44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8680" y="533520"/>
            <a:ext cx="8458200" cy="112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omponents of a Response Plan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35600" y="1752120"/>
            <a:ext cx="5108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here the response plan will be implemented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Need to consider influence of climate change 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hen interventions will be implemented, including thresholds for action 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What interventions will be implemented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How the response plan will be implemented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To whom the interventions will be communicated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6806880" y="652140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bi and Schmier 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Sant%20Angelo" descr=""/>
          <p:cNvPicPr/>
          <p:nvPr/>
        </p:nvPicPr>
        <p:blipFill>
          <a:blip r:embed="rId1"/>
          <a:stretch/>
        </p:blipFill>
        <p:spPr>
          <a:xfrm>
            <a:off x="0" y="2438280"/>
            <a:ext cx="400356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engue" descr=""/>
          <p:cNvPicPr/>
          <p:nvPr/>
        </p:nvPicPr>
        <p:blipFill>
          <a:blip r:embed="rId1"/>
          <a:stretch/>
        </p:blipFill>
        <p:spPr>
          <a:xfrm>
            <a:off x="1285920" y="1620720"/>
            <a:ext cx="6572160" cy="5237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Effective Interventions are Embedded in an Understanding of Human Factors and Address Local Situation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onstruction of Predictive Models of Health Outcome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44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Evaluation of potential for epidemic transmission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Identification of epidemic-prone areas and populations at risk to allow rapid: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Prediction and detection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Targeting of response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rebuchet MS"/>
              </a:rPr>
              <a:t>Planning of logistics for response</a:t>
            </a:r>
            <a:endParaRPr b="1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Quantification of climatic and non-climatic disease risk factors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rebuchet MS"/>
                <a:ea typeface="Times New Roman"/>
              </a:rPr>
              <a:t>Quantification of the links between climate, other factors, and disease outbreaks to construct model</a:t>
            </a:r>
            <a:endParaRPr b="1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eather-Based Prediction of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Plasmodium falciparum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Malaria in Ethiopia: Comparison with Early Detection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00280" y="2133720"/>
            <a:ext cx="4095720" cy="3900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13480" y="6521400"/>
            <a:ext cx="26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klehaimanot et al.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16:29:07Z</dcterms:created>
  <dc:creator>Kristie L. Ebi</dc:creator>
  <dc:description/>
  <dc:language>en-US</dc:language>
  <cp:lastModifiedBy>kebi</cp:lastModifiedBy>
  <dcterms:modified xsi:type="dcterms:W3CDTF">2005-12-03T15:00:02Z</dcterms:modified>
  <cp:revision>280</cp:revision>
  <dc:subject/>
  <dc:title>Come Hell or High Water: Adapting to Climate Variability and Change</dc:title>
</cp:coreProperties>
</file>